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1839"/>
        <c:axId val="67087401"/>
      </c:barChart>
      <c:catAx>
        <c:axId val="76731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87401"/>
        <c:crosses val="autoZero"/>
        <c:auto val="1"/>
        <c:lblAlgn val="ctr"/>
        <c:lblOffset val="100"/>
        <c:noMultiLvlLbl val="0"/>
      </c:catAx>
      <c:valAx>
        <c:axId val="67087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1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25C-67A2-4782-BDF0-62C587F6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7A6-AA6D-46CC-BBA8-EF1FB6F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7E5-4014-47EF-90F5-1679CCC3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728-AC0C-437C-BE0F-84D9E17F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50E-2790-4BCB-8965-233A072D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092-318D-4750-93BB-D5F60C2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0A2-D7B3-4595-B807-F0A7EE9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CAB-413A-4144-A534-12664455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DAA-B714-4F1C-B93D-2AE8D4B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1BC-FC62-496D-B99A-50C0A5D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0CE-69BA-4692-92D9-298E7D1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D07-337F-4C20-9B7A-D12D665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C314A-A512-4DC6-99EB-AAABECEB9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