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4904"/>
        <c:axId val="98446034"/>
      </c:barChart>
      <c:catAx>
        <c:axId val="3404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6034"/>
        <c:crosses val="autoZero"/>
        <c:auto val="1"/>
        <c:lblAlgn val="ctr"/>
        <c:lblOffset val="100"/>
        <c:noMultiLvlLbl val="0"/>
      </c:catAx>
      <c:valAx>
        <c:axId val="98446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4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4F0-AD24-478E-87DD-11497D3D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99B-DF9F-4E70-8F5C-922BD90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581-E857-4B6D-8C73-59790D01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BAB-AF79-49FD-82A0-E2BE1420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CB1-9EEC-4E4D-8299-38ED3C4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DB5-429D-4680-9498-B865615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36A-91AD-42AC-8B73-578D37F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B33-3F02-49BB-BB01-1090A62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689-7540-4034-AE03-66D56023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4CD-22EE-44D0-97C0-EEA78F88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FE8-513F-4635-B18F-20604F6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ACF-1317-415E-ABED-5349913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683B-154F-49C2-8D7F-ED35370AE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